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jpeg" ContentType="image/jpeg"/>
  <Override PartName="/ppt/media/image5.wmf" ContentType="image/x-wmf"/>
  <Override PartName="/ppt/media/image3.wmf" ContentType="image/x-wmf"/>
  <Override PartName="/ppt/media/image24.jpeg" ContentType="image/jpeg"/>
  <Override PartName="/ppt/media/image4.wmf" ContentType="image/x-wmf"/>
  <Override PartName="/ppt/media/image23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22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A82C-B1E6-41C2-A3C1-D1520B213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6DB0-5CD6-4C68-8AB4-E43A54BA0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98EC-58C0-4DA4-9B5C-378DD119D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5F09-FA86-4F30-BC33-42753A2A4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FB4D-5205-4133-9F9C-CA8C833B3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ECCC-79D6-4361-BFAA-848D828CC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8D5A-BBAB-4E73-B850-472D9C865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7BB9-493A-4FB1-978A-B70091669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549C-D7DE-4BE0-B4EF-237368439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34B1-3ABF-4997-9FAB-7A82C3A34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6164-ABF0-4C7E-BBDD-9112FEDF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018-C97B-48D2-BEB2-07ED4107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DEB-CB35-4694-9F63-1B0DAA73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68D-63C7-46C4-A26F-CAECA631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61A9-E1E2-43D7-8127-7E7CD724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2E61-2B7D-4C0D-933F-FC1B4184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44B1-1316-4EBC-91D1-6622D6AE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4F6A-70C7-4618-B087-DBC741A0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DE88-96FA-4079-9F30-A8C3E5AA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24BF-AA61-424C-98F5-33263A51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9691-B573-42E6-A339-8828BFE8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B40-7795-4A0B-B3F6-3ACFFBA2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4E5B-4A58-4BBD-8025-E0E19BBD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A373-2B58-465F-8748-BAC02E88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1B81-A760-4927-8F1F-805D55C2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7972-3D57-48A8-9D4E-214970F6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5B88-EBD1-4741-8D95-C366DA0D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35E32-2EA9-44F8-9AA9-0168CC45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9B73C-4D4F-4664-BD71-1FB81994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748CE-2FCD-4C32-910C-477D79DA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51B20-3565-467D-854B-F8B8B403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E2E9-3893-447C-8255-08B744CC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2EAF-140D-49D4-9F49-EF6D6695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F5DAF-9D2E-49D1-9AB7-4C521334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75CF8-7E58-406B-B9C2-E283167F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358A-C2ED-4043-9240-EB116CD0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D1DE6-8878-403B-9BEF-4916FE67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A7A6-2801-41B7-AB29-A6BD0DBD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8D185-B74C-4AD2-AA61-D40359E8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CBC6F-7320-49D3-99E9-AD9DB7A9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83977-2DDE-42A9-82B6-D7E040D3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3F83F-8894-426C-8579-68142330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110F7-5977-47DE-A2CC-0482A14C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3DE-B920-4FE8-BC5F-64463EA3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B67D2-18FB-4E49-8799-580EC900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03EB7-C7B6-4739-B10D-623196A7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CCC0D-D9B0-495D-9C97-6A73BD8D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0F253-E6A5-4531-9AF3-097BCCA7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D9016-96BC-4E38-B133-1725909A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60FC5-4F5E-4148-8480-BABD2BA8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0EE26-0818-4319-80AA-0BDA1AFB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023E2-1B7A-4571-B905-C25BC386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00339-3EAF-4D2C-88EB-31009117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57022-30F3-470D-9F9D-E4E8599B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2C9-1233-4C6E-88BC-51977D7E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C4863-240C-4DB3-87B6-7241875E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EF700-A469-4770-A987-92309399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06A08-05B2-4846-9212-D0200054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3ED21-45F6-4834-8DEB-F3AAC193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577DE-12B0-4021-B095-230EF8F3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19668-5A63-402B-A246-C0A5B8C1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D3269-B472-4B26-8784-70907E2A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7F220-687E-4CB6-930A-C98438B7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E8BBC-AB47-450B-8671-C033EBBD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D0391-223E-4D29-8C7B-F6474B67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670-4311-4CD2-A1D4-BA59780D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5B653-C5A2-4BC1-98D9-9EFE89D7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0ABE4-2893-4B11-AD3F-E7397155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E7784-41CF-477D-9DF1-4BAB7179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B8245-D3F6-4F68-8135-C6FBC06A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7171B-57B1-4FFF-9645-A61EC5D1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86BED-26B8-4CBC-A342-21BE37BA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5FF24-57F3-4D3B-A0F3-C4C5BE8B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C29D2-6CF4-427A-B714-B999C80F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92455-DF8C-4360-B47F-19DFB17F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51EC1-E66C-400E-B445-277B1406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873-B2FE-459B-9DB8-5F3649A3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37180-2F0A-43EE-996F-B8DDFACB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FF358-D7B0-460B-81F7-70A60EB3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AE446-947F-488C-A2A6-32313EB9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8A98C-20B6-469C-8A1B-78895E18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1BA8E-A9D9-4F18-96BE-7913C901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17E84-CBBB-42E4-964E-5B35C754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761DF-896F-448D-8519-D03AD186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DF61C-35C0-47DF-815D-EDCA11D9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01A06-DB47-4848-9071-A2C6E208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56037-D897-4E0C-8BAC-A9BD562B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7661-6585-4F5D-8CB9-B98EE974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D23D0-7DF6-486F-AA63-6860B094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43DA5-3ABD-4136-9335-157C0426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878BF-D098-4F1A-BF47-D3DA7698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C61F7-D8FF-4741-A0D1-BDA73C75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7F02E-44AD-409F-ABC1-80E2F09D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ECF-5776-4325-A73E-49232C2C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6CE5-2B0B-46AC-A6EB-08CF4A60D71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73F3-E78B-4140-83C3-2CC79A70B33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9DBD-ACC7-4D98-9F04-755A7CD94A0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66E6-07EF-49F6-A7C9-9905D14C74D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A649-B7FF-4039-99FE-B1561E547B1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B900-6EAA-489D-864C-C05CFE0360E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7436-52D9-428A-BC17-7A712F4CAC4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hat does culture mean to you?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The Meaning of Cul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23" name="Picture 4" descr="BL00248_"/>
          <p:cNvPicPr/>
          <p:nvPr/>
        </p:nvPicPr>
        <p:blipFill>
          <a:blip r:embed="rId1"/>
          <a:stretch/>
        </p:blipFill>
        <p:spPr>
          <a:xfrm>
            <a:off x="7467480" y="4800600"/>
            <a:ext cx="646200" cy="615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BL00252_"/>
          <p:cNvPicPr/>
          <p:nvPr/>
        </p:nvPicPr>
        <p:blipFill>
          <a:blip r:embed="rId2"/>
          <a:stretch/>
        </p:blipFill>
        <p:spPr>
          <a:xfrm>
            <a:off x="5791320" y="4648320"/>
            <a:ext cx="949320" cy="825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BL00265_"/>
          <p:cNvPicPr/>
          <p:nvPr/>
        </p:nvPicPr>
        <p:blipFill>
          <a:blip r:embed="rId3"/>
          <a:stretch/>
        </p:blipFill>
        <p:spPr>
          <a:xfrm>
            <a:off x="4267080" y="4724280"/>
            <a:ext cx="617760" cy="785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BL00270_"/>
          <p:cNvPicPr/>
          <p:nvPr/>
        </p:nvPicPr>
        <p:blipFill>
          <a:blip r:embed="rId4"/>
          <a:stretch/>
        </p:blipFill>
        <p:spPr>
          <a:xfrm>
            <a:off x="2666880" y="4724280"/>
            <a:ext cx="561960" cy="700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BL00273_"/>
          <p:cNvPicPr/>
          <p:nvPr/>
        </p:nvPicPr>
        <p:blipFill>
          <a:blip r:embed="rId5"/>
          <a:stretch/>
        </p:blipFill>
        <p:spPr>
          <a:xfrm>
            <a:off x="914400" y="4876920"/>
            <a:ext cx="895320" cy="5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Complexity of Culture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Culture Traits-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Use of forks and knives, saying hello to someone you see in the hall, tackling someone in a football gam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Culture complexes-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able manners, the game of footbal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Culture Patterns- 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Sports, Religion, Family lif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eaching American Cul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How hard would it be to teach someone from another country about our culture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Example: American Christma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44792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Questions to ask myself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at makes American Christmas different from Christmas around the world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hat sort of cultural products, practices, symbols, language, norms, language, etc. make up American Christmas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ow could I share this with someone who has recently moved to this country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5" name="Picture 2" descr="http://earlymodernpost.files.wordpress.com/2011/12/christmas_snoopy2.jpg"/>
          <p:cNvPicPr/>
          <p:nvPr/>
        </p:nvPicPr>
        <p:blipFill>
          <a:blip r:embed="rId1"/>
          <a:stretch/>
        </p:blipFill>
        <p:spPr>
          <a:xfrm>
            <a:off x="5791320" y="2209680"/>
            <a:ext cx="30859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American Christmas…What Makes it Different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67" name="Picture 4" descr="http://open-site.org/img/mjflick/sint.jpg"/>
          <p:cNvPicPr/>
          <p:nvPr/>
        </p:nvPicPr>
        <p:blipFill>
          <a:blip r:embed="rId1"/>
          <a:stretch/>
        </p:blipFill>
        <p:spPr>
          <a:xfrm>
            <a:off x="685800" y="2590920"/>
            <a:ext cx="3209760" cy="2409840"/>
          </a:xfrm>
          <a:prstGeom prst="rect">
            <a:avLst/>
          </a:prstGeom>
          <a:ln w="0">
            <a:noFill/>
          </a:ln>
        </p:spPr>
      </p:pic>
      <p:sp>
        <p:nvSpPr>
          <p:cNvPr id="368" name="TextBox 5"/>
          <p:cNvSpPr/>
          <p:nvPr/>
        </p:nvSpPr>
        <p:spPr>
          <a:xfrm>
            <a:off x="685800" y="510552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ides on horse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uts toys in sh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6" descr="http://www.santaclaus.info/images/santa2.jpg"/>
          <p:cNvPicPr/>
          <p:nvPr/>
        </p:nvPicPr>
        <p:blipFill>
          <a:blip r:embed="rId2"/>
          <a:stretch/>
        </p:blipFill>
        <p:spPr>
          <a:xfrm>
            <a:off x="5486400" y="1600200"/>
            <a:ext cx="2476440" cy="3676680"/>
          </a:xfrm>
          <a:prstGeom prst="rect">
            <a:avLst/>
          </a:prstGeom>
          <a:ln w="0">
            <a:noFill/>
          </a:ln>
        </p:spPr>
      </p:pic>
      <p:sp>
        <p:nvSpPr>
          <p:cNvPr id="370" name="TextBox 7"/>
          <p:cNvSpPr/>
          <p:nvPr/>
        </p:nvSpPr>
        <p:spPr>
          <a:xfrm>
            <a:off x="5181480" y="53341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Has a sleigh driven by flying reind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Brings toys down our chim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927720" y="205740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Santa in Hol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6602760" y="137160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American S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96464"/>
                </a:solidFill>
                <a:latin typeface="Franklin Gothic Book"/>
              </a:rPr>
              <a:t>Cultural Products, Practices, Symbol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5440" y="1905120"/>
            <a:ext cx="6172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Norms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anking someone for a gift, RSVPing to a party, greeting someone, etc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roducts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ifts, ornaments, candy canes, etc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Practices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aroling, decorating the Christmas tree, wrapping gifts, watching Christmas movies, spending time with family and friends, Secret Santa, White Elephant parties, etc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Symbols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istleto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5" name="Picture 2" descr="http://blah.burrp.com/wp-content/uploads/2008/12/mistletoerex_228x357.jpg"/>
          <p:cNvPicPr/>
          <p:nvPr/>
        </p:nvPicPr>
        <p:blipFill>
          <a:blip r:embed="rId1"/>
          <a:stretch/>
        </p:blipFill>
        <p:spPr>
          <a:xfrm>
            <a:off x="6705720" y="3124080"/>
            <a:ext cx="217152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Franklin Gothic Book"/>
              </a:rPr>
              <a:t>Definition of Cul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Consists of all the shared products of human groups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These products includ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Physical objec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elief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Valu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ehavio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LL SHARED BY A GROUP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0" name="Picture 4" descr="PH03426I"/>
          <p:cNvPicPr/>
          <p:nvPr/>
        </p:nvPicPr>
        <p:blipFill>
          <a:blip r:embed="rId1"/>
          <a:stretch/>
        </p:blipFill>
        <p:spPr>
          <a:xfrm>
            <a:off x="5257800" y="2590920"/>
            <a:ext cx="297180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Franklin Gothic Book"/>
              </a:rPr>
              <a:t>CULTURE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9144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erial Cul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physical objects that people create form a group’s material cul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Artifacts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933800" y="1447920"/>
            <a:ext cx="3749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nmaterial Cul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bstract human creations form a group’s nonmaterial culture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Idea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Work practic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olitical syste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Family pattern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4" name="Picture 1030" descr="TN00332_"/>
          <p:cNvPicPr/>
          <p:nvPr/>
        </p:nvPicPr>
        <p:blipFill>
          <a:blip r:embed="rId1"/>
          <a:stretch/>
        </p:blipFill>
        <p:spPr>
          <a:xfrm>
            <a:off x="990720" y="5257800"/>
            <a:ext cx="2293920" cy="11397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31" descr="BD00041_"/>
          <p:cNvPicPr/>
          <p:nvPr/>
        </p:nvPicPr>
        <p:blipFill>
          <a:blip r:embed="rId2"/>
          <a:stretch/>
        </p:blipFill>
        <p:spPr>
          <a:xfrm>
            <a:off x="2743200" y="4267080"/>
            <a:ext cx="930240" cy="8924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32" descr="BS00580_"/>
          <p:cNvPicPr/>
          <p:nvPr/>
        </p:nvPicPr>
        <p:blipFill>
          <a:blip r:embed="rId3"/>
          <a:stretch/>
        </p:blipFill>
        <p:spPr>
          <a:xfrm>
            <a:off x="1523880" y="4343400"/>
            <a:ext cx="993960" cy="836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033" descr="BS00975_"/>
          <p:cNvPicPr/>
          <p:nvPr/>
        </p:nvPicPr>
        <p:blipFill>
          <a:blip r:embed="rId4"/>
          <a:stretch/>
        </p:blipFill>
        <p:spPr>
          <a:xfrm>
            <a:off x="304920" y="4343400"/>
            <a:ext cx="1155600" cy="7128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34" descr="BD06553_"/>
          <p:cNvPicPr/>
          <p:nvPr/>
        </p:nvPicPr>
        <p:blipFill>
          <a:blip r:embed="rId5"/>
          <a:stretch/>
        </p:blipFill>
        <p:spPr>
          <a:xfrm>
            <a:off x="5257800" y="3352680"/>
            <a:ext cx="1039680" cy="1030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035" descr="bd19923_"/>
          <p:cNvPicPr/>
          <p:nvPr/>
        </p:nvPicPr>
        <p:blipFill>
          <a:blip r:embed="rId6"/>
          <a:stretch/>
        </p:blipFill>
        <p:spPr>
          <a:xfrm>
            <a:off x="7010280" y="4191120"/>
            <a:ext cx="1766880" cy="906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36" descr="BD06914_"/>
          <p:cNvPicPr/>
          <p:nvPr/>
        </p:nvPicPr>
        <p:blipFill>
          <a:blip r:embed="rId7"/>
          <a:stretch/>
        </p:blipFill>
        <p:spPr>
          <a:xfrm>
            <a:off x="5257800" y="5029200"/>
            <a:ext cx="752400" cy="7524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37" descr="BD07123_"/>
          <p:cNvPicPr/>
          <p:nvPr/>
        </p:nvPicPr>
        <p:blipFill>
          <a:blip r:embed="rId8"/>
          <a:stretch/>
        </p:blipFill>
        <p:spPr>
          <a:xfrm>
            <a:off x="4343400" y="5029200"/>
            <a:ext cx="903240" cy="789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38" descr="PE00833_"/>
          <p:cNvPicPr/>
          <p:nvPr/>
        </p:nvPicPr>
        <p:blipFill>
          <a:blip r:embed="rId9"/>
          <a:stretch/>
        </p:blipFill>
        <p:spPr>
          <a:xfrm>
            <a:off x="6019920" y="5791320"/>
            <a:ext cx="1347840" cy="7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Franklin Gothic Book"/>
              </a:rPr>
              <a:t>What can an artifact tell us about a culture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rtifacts contain many clues about a society’s cultur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nthropologists search for artifacts to learn about cultures of past societie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kind of information can anthropologists gain by studying artifacts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nk of an example….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5" name="Picture 4" descr="BD06094_"/>
          <p:cNvPicPr/>
          <p:nvPr/>
        </p:nvPicPr>
        <p:blipFill>
          <a:blip r:embed="rId1"/>
          <a:stretch/>
        </p:blipFill>
        <p:spPr>
          <a:xfrm>
            <a:off x="4572000" y="4648320"/>
            <a:ext cx="1184400" cy="17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Franklin Gothic Book"/>
              </a:rPr>
              <a:t>Society v. Culture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Perpetua"/>
              </a:rPr>
              <a:t>Society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is a group of mutually inter-dependent people who have organized in such a way as to share a common culture and feeling of unity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8" name="Picture 5" descr="BD05062_"/>
          <p:cNvPicPr/>
          <p:nvPr/>
        </p:nvPicPr>
        <p:blipFill>
          <a:blip r:embed="rId1"/>
          <a:stretch/>
        </p:blipFill>
        <p:spPr>
          <a:xfrm>
            <a:off x="4721400" y="2655720"/>
            <a:ext cx="3663720" cy="268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</a:rPr>
              <a:t>Huh?  In simple terms…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	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Perpetua"/>
              </a:rPr>
              <a:t>Society</a:t>
            </a:r>
            <a:r>
              <a:rPr b="0" lang="en-US" sz="4800" spc="-1" strike="noStrike">
                <a:solidFill>
                  <a:srgbClr val="006600"/>
                </a:solidFill>
                <a:latin typeface="Perpetua"/>
              </a:rPr>
              <a:t> consists of people and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Perpetua"/>
              </a:rPr>
              <a:t>Culture</a:t>
            </a:r>
            <a:r>
              <a:rPr b="0" lang="en-US" sz="4800" spc="-1" strike="noStrike">
                <a:solidFill>
                  <a:srgbClr val="800000"/>
                </a:solidFill>
                <a:latin typeface="Perpetua"/>
              </a:rPr>
              <a:t> </a:t>
            </a:r>
            <a:r>
              <a:rPr b="0" lang="en-US" sz="4800" spc="-1" strike="noStrike">
                <a:solidFill>
                  <a:srgbClr val="006600"/>
                </a:solidFill>
                <a:latin typeface="Perpetua"/>
              </a:rPr>
              <a:t>consists of the products that people create.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1" name="Picture 4" descr="BD08784_"/>
          <p:cNvPicPr/>
          <p:nvPr/>
        </p:nvPicPr>
        <p:blipFill>
          <a:blip r:embed="rId1"/>
          <a:stretch/>
        </p:blipFill>
        <p:spPr>
          <a:xfrm>
            <a:off x="3276720" y="4267080"/>
            <a:ext cx="2808000" cy="21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96464"/>
                </a:solidFill>
                <a:latin typeface="Franklin Gothic Book"/>
              </a:rPr>
              <a:t>Components of Culture</a:t>
            </a:r>
            <a:endParaRPr b="0" lang="en-US" sz="6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762120" y="1905120"/>
          <a:ext cx="761976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61976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96464"/>
                </a:solidFill>
                <a:latin typeface="Franklin Gothic Book"/>
              </a:rPr>
              <a:t>Types of Norms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Perpetua"/>
              </a:rPr>
              <a:t>Folkway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are norms that do not have great moral significance attached to them.  They are common customs of everyday life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x.  Holding a door for someone, saying “bless you” to a sneez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Perpetua"/>
              </a:rPr>
              <a:t>Mores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 have great moral significance attached to them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x.  Adultery, lying, cheat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Perpetua"/>
              </a:rPr>
              <a:t>Law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: is a written rule of conduct that is enacted and enforced by the government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ultural P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9144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roduct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ything created by the culture for members of that culture, tangible or intangible, such as food, art, books, educational system, and laws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ractices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people do, when and where of social interactions, what they do with their products, etc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Perspectives</a:t>
            </a:r>
            <a:r>
              <a:rPr b="1" lang="en-US" sz="26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attitudes, beliefs, or values of people in a culture.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23:00:29Z</dcterms:created>
  <dc:creator>Unknown User</dc:creator>
  <dc:description/>
  <dc:language>en-US</dc:language>
  <cp:lastModifiedBy>John Hampton</cp:lastModifiedBy>
  <dcterms:modified xsi:type="dcterms:W3CDTF">2012-05-08T18:47:47Z</dcterms:modified>
  <cp:revision>14</cp:revision>
  <dc:subject/>
  <dc:title>The Meaning of Culture</dc:title>
</cp:coreProperties>
</file>